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08A-5541-479E-AFEB-A83F4EE8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ADD-D8DB-4244-A861-2D27FB59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AC3-B8A4-4837-B9F3-33BD92B2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C05-1374-42B1-9122-ED881802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71F-DE53-4EA4-A72C-5648BFFB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3D1F-8E53-4F25-84C7-19DDE1E2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4749-1331-4785-917D-AEF652BC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F0FD-37E2-4874-A46F-1C3EA64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C7D4-A423-4D1F-AE9D-240886C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B69-B884-490E-B6FA-13DC12A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716C-4E9E-4473-8BA7-DD44D37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EB2-DA3B-48D5-98E6-73BA5683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644D-11BB-4379-B513-C4F4CD5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1B53-0924-40C8-AB9F-860F125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BA4-2682-4AE9-AC5B-56742C65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B4E7-5A9D-4DDD-98E4-9D35F16C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A1C-828C-4E53-AF85-D50759A4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20B-0C5A-4D68-A948-EA711AB1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6D5-B3F7-49C2-A818-2776F95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AA9-67CD-48F5-8FBC-C6A183F2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E7E-A10E-41C7-8B48-49DB024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B8A-FBC7-46D7-B75F-4533273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E80-AFBA-400F-8022-FFFA4B9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672-B4FD-44AA-A43D-97C7395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2F57-6B4E-4F75-9FEF-CE744983FB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4E0-BD31-4D20-9D72-C6401A9234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ac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2221"/>
                </a:solidFill>
                <a:latin typeface="Times New Roman"/>
              </a:rPr>
              <a:t>Aminosäuren/Proteine -                            Chemische Prozesse im menschlichen Körper</a:t>
            </a:r>
            <a:br>
              <a:rPr sz="2800"/>
            </a:b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3504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Was sind Aminosäuren / Prote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Welche gibt 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Erster Schritt von der Aminosäure zum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Woher kommen sie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Auswirkungen bei natürlicher und  künstlicher (chemischer) Zu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Ist eine zusätzlich Zuführung von Aminosäuren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Impressum</a:t>
            </a:r>
            <a:endParaRPr b="0" lang="en-US" sz="4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61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rstellt und vorgetragen v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arik Mey und Eric Re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48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as sind Aminosäuren / Proteine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inosäur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minocarbonsäure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Kohlenstoff-, Wasserstoff-, Stickstoff- und Sauerstoffat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che Verbindungen, die als funktionelle Gruppen sowohl eine Carboxyl-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COO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als auch eine Aminogruppe (</a:t>
            </a:r>
            <a:r>
              <a:rPr b="0" lang="de-DE" sz="1600" spc="-1" strike="noStrike">
                <a:solidFill>
                  <a:srgbClr val="009999"/>
                </a:solidFill>
                <a:latin typeface="Arial"/>
              </a:rPr>
              <a:t>-NH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enthal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ste Bausteine der Prote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bt nur 20 verschiedene Aminosäuren, die in den Proteinen vorkommen (proteinogene Aminosäure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eine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von griech.: proteuein = „der Erste sein“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en aus mehr als 100 Aminosäuren (Makromolekü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ser bekannt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weiß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gehören zu den Naturstoffen mit der größten chemischen Mannigfaltigke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kannt: über 2.000 Prote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chätzt: 50.000 verschiedene Prote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elche gibt es ?</a:t>
            </a:r>
            <a:br>
              <a:rPr sz="3600"/>
            </a:b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990440" cy="603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Unsere Beispiel – Aminosä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666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01665 L -0.025 0.09438 E">
                                      <p:cBhvr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391520" y="327672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13716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24680" y="26668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O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53280" y="1981080"/>
            <a:ext cx="6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29600" y="3581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848720" y="42670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05320" y="3886200"/>
            <a:ext cx="2133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3657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imatio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19720" y="31240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114800" cy="91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600200" y="21337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43600" y="22096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Glycin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76920"/>
            <a:ext cx="259092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52280" y="5562720"/>
            <a:ext cx="4724640" cy="116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629400" y="5715000"/>
            <a:ext cx="380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52880" y="563868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15200" y="5638680"/>
            <a:ext cx="1523880" cy="71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81080" y="4191120"/>
            <a:ext cx="990720" cy="466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638680" y="46483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Dipeptid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0"/>
            <a:ext cx="71582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Times New Roman"/>
              </a:rPr>
              <a:t>Erster Schritt von der Aminosäure zum Protein</a:t>
            </a:r>
            <a:br>
              <a:rPr sz="2400"/>
            </a:br>
            <a:br>
              <a:rPr sz="1800"/>
            </a:br>
            <a:r>
              <a:rPr b="1" lang="de-DE" sz="2000" spc="-1" strike="noStrike">
                <a:solidFill>
                  <a:srgbClr val="006666"/>
                </a:solidFill>
                <a:latin typeface="Times New Roman"/>
              </a:rPr>
              <a:t>Vom Aminobaustein zum Dipeptid (Peptidbind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69 C -0.3099 0.17441 -0.61962 0.34837 -0.75486 0.43974 C -0.89011 0.53111 -0.80573 0.53134 -0.81164 0.54938 E">
                                      <p:cBhvr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189E-008 C 0.00347 0.02198 0.15243 0.07009 0.02465 0.13162 C -0.1033 0.19315 -0.63125 0.34582 -0.76823 0.36873 C -0.90503 0.39163 -0.79167 0.29008 -0.79774 0.26949 E">
                                      <p:cBhvr>
                                        <p:cTn id="10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2 C -0.26771 0.11104 -0.53611 0.223 -0.64289 0.26718 E">
                                      <p:cBhvr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82373E-006 C -0.21354 0.10525 -0.42014 0.21559 -0.52031 0.24428 C -0.62049 0.27296 -0.58403 0.18761 -0.60087 0.1728 E">
                                      <p:cBhvr>
                                        <p:cTn id="10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07495E-006 C -0.24409 0.11936 -0.48767 0.23896 -0.58472 0.31645 C -0.68177 0.39394 -0.58125 0.43974 -0.58229 0.46542 E">
                                      <p:cBhvr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0874E-006 C -0.06077 0.12029 -0.29115 0.62665 -0.36424 0.71941 C -0.43733 0.81217 -0.42309 0.59056 -0.43872 0.55656 E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08189E-008 C -0.05833 0.16262 -0.1092 0.32501 -0.18003 0.37312 C -0.25087 0.42124 -0.37396 0.30581 -0.425 0.28823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2373E-006 C -0.02761 0.02799 -0.11528 0.13949 -0.16702 0.16771 C -0.21875 0.19593 -0.28073 0.1691 -0.31059 0.16933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93E-006 C 0.00452 0.05135 0.07396 0.22854 0.02709 0.3065 C -0.01979 0.38445 -0.21684 0.43373 -0.28107 0.46727 E">
                                      <p:cBhvr>
                                        <p:cTn id="1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49179E-006 C -0.07257 0.05967 -0.14497 0.11959 -0.17535 0.18181 C -0.20573 0.24404 -0.1941 0.30858 -0.18229 0.37311 E">
                                      <p:cBhvr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84178E-007 C 0.00747 0.06662 0.06146 0.33611 0.04479 0.3988 C 0.02813 0.46148 -0.06979 0.38098 -0.1 0.37636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0874E-006 C 0.0033 0.05853 0.01632 0.25769 0.01909 0.35115 C 0.02187 0.4446 0.01701 0.51747 0.01649 0.56119 E">
                                      <p:cBhvr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28954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330120"/>
          <a:ext cx="6324840" cy="6537240"/>
        </p:xfrm>
        <a:graphic>
          <a:graphicData uri="http://schemas.openxmlformats.org/drawingml/2006/table">
            <a:tbl>
              <a:tblPr/>
              <a:tblGrid>
                <a:gridCol w="1582920"/>
                <a:gridCol w="1579680"/>
                <a:gridCol w="1591920"/>
                <a:gridCol w="1570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Peptidbind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Anzahl Aminosäu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 Unicode MS"/>
                        </a:rPr>
                        <a:t>Bezeichun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lig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Undec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lypept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E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eicosapepti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o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cos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ri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Tetr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Pent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Nonacon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Henhe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kropep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333333"/>
                          </a:solidFill>
                          <a:latin typeface="Arial Unicode MS"/>
                        </a:rPr>
                        <a:t>Dictapept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s über 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teine / Eiweiß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33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-2289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oher kommen sie ?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8610480" cy="38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Aminosäuren werden im Körper produziert oder müssen in Form von Nahrung aufgenomm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Hierbei unterscheidet man zwisch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 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körpereigene Produ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sentiell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xogene Aufnah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i-essentiel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minosäuren, die der Körper unter bestimmten Umständen nicht selbst herstellt bei bspw. Krankheiten, Schwangerschaft, usw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minosäuren werden im gesamten Körper benötigt und haben daher eine Vielzahl von Aufgab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Bildung von Horm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 Insulinausschüt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Stoffwechselproz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n die Kollagenbildu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organischer Bestandteil von Knochen, Haut, Zähnen, Sehne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zur Regeneration von Orga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fen bei der Herstellung von Nervenbotenstoff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spw. Seroton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Auswirkungen bei natürlicher und  künstlicher (chemischer) </a:t>
            </a:r>
            <a:br>
              <a:rPr sz="2100"/>
            </a:br>
            <a:r>
              <a:rPr b="1" lang="en-US" sz="2100" spc="-1" strike="noStrike">
                <a:solidFill>
                  <a:srgbClr val="006666"/>
                </a:solidFill>
                <a:latin typeface="Times New Roman"/>
              </a:rPr>
              <a:t>Zuführung </a:t>
            </a:r>
            <a:br>
              <a:rPr sz="2100"/>
            </a:br>
            <a:endParaRPr b="0" lang="en-US" sz="21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676520"/>
            <a:ext cx="9144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ycin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nt als Stickstoffliefer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Glutam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stützt das Muskelwachstu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lan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ielt eine wichtige Rolle in den Stoffwechselproze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en der Muskulatur und der Le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sparag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im Körper zu Ammoniak umgebaut und wirk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rntreibend. Es wird zum Abbau von Alkohol benötig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sparaginsäur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d für die Bildung des DNS-Moleküls benöti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lutaminsäure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in wichtiger Transmitterstoff für die Kommunikation zwischen den einzelnen Gehirnzell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l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wichtig für Gelenke, Sehnen und eine normale Funktion und Regeneration des Herzmusk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rinmangel kann zu Abgeschlagenheit und Depression füh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Histid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des roten Blutfarbstoffes Hämoglobin, Schlüsselfunktion bei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lergischen und entzündlichen Erkrankun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Cystein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-Cystein ist unentbehrlich für die Haar- und Hautbildung, hilft bei der Entgiftung des Körpers v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ermetallen. Ein Mangel kann den Eiweißaufbau und auch die Wundheilung beeinträchti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Iso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bau/Erhalt von Muskelgeweb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euc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setzung von Insulin in der Bauchspeicheldrü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Ly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ie Kollagenbildung in Blutgefäßen, Haut, Knochen und Zähn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Methi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lft bei der Regeneration von Leber- und Nierengewe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Phenylala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ildung von Proteinen und Hormo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hreo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ördert das Wachstum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nochen und dient zur Bildung von Proteine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ryptopha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stellung des Nervenbotenstoffes Serotonin beteiligt, welches den Schlaf- Wach-Rhythmus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Stimmungslage, den Appetit und das Schmerzempfinden regulie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Val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der übermäßigen Serotoninbildu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ge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Tyro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wird für die Bildung d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ilddrüsenhormone benöti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-Argin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t gefäßerweiternd und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uliert somit den Blutflu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szug von Wirkungen einzelner Aminosäuren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uf körpereigene Prozesse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077320" y="635004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</a:rPr>
              <a:t>Ist eine zusätzliche Zuführung von Aminosäuren sinnvoll?</a:t>
            </a:r>
            <a:endParaRPr b="0" lang="en-US" sz="23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ormal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keinen Mangel an Aminosä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rper stellt alle ihm im Umfang benötigten Aminosäuren selbst her und nimmt die gering benötigten essentiellen Aminosäuren durch Nahrung au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usnahmef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Mangel an Aminosäuren kann ent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Krankheitsfällen oder noch nicht ausgereifter körperlicher Entwicklung werden bestimmte Aminosäuren einfach nicht gebil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ßergewöhnlicher körperlicher Belastung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z.B. Schwangerschaft, Stillzeit, Leistung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077320" y="6324480"/>
            <a:ext cx="863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urü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CYou</cp:lastModifiedBy>
  <dcterms:modified xsi:type="dcterms:W3CDTF">2007-11-25T22:29:37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